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C4F-039F-4070-9F4E-E9D8DFB9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F86-11EC-4F66-980F-7F74BA3D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74E-CF33-4111-AE72-852F97DC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702-5B9C-429B-A750-C19BA31B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1D1-5FC6-4CCE-85A2-AA886455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158-46D8-4610-9882-49BB3EF7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29C-679C-4EDF-9FD1-F9001233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C93-9ECF-47EF-AA76-A9BBD481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5A2-5DED-4E87-B915-F1B23D69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106-140C-42BB-A44E-4A1C0B0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475-0DEF-4093-9C14-0298AECA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DC7-81FE-416E-B665-2D96A55C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D0C6-8E63-4CD1-9A4D-B03C93A75A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dad+m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000000"/>
                </a:solidFill>
                <a:uFillTx/>
                <a:latin typeface="comic"/>
              </a:rPr>
              <a:t>BATALLAS</a:t>
            </a:r>
            <a:r>
              <a:rPr b="0" lang="es-ES" sz="9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Vemos  a dos nobles con sus ejércitos luchando por más territorio. Los que luchan en esa época se llamaban caballeros (iban montados a caballo) y los soldados (iban a pie por que no se podían permitir un caballo). En la imagen se ve que los atacantes (rojo) intentan conquistar el castillo de los oponentes (azu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iudad_Edad_Media"/>
          <p:cNvPicPr/>
          <p:nvPr/>
        </p:nvPicPr>
        <p:blipFill>
          <a:blip r:embed="rId1"/>
          <a:stretch/>
        </p:blipFill>
        <p:spPr>
          <a:xfrm>
            <a:off x="468360" y="260280"/>
            <a:ext cx="79549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000000"/>
                </a:solidFill>
                <a:uFillTx/>
                <a:latin typeface="comic"/>
              </a:rPr>
              <a:t>LA CIUDAD </a:t>
            </a:r>
            <a:r>
              <a:rPr b="0" lang="es-ES" sz="9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En la imagen anterior se ve como  eran las ciudades en la Edad Media. Aparece un mercado (donde se intercambiaban y compraban objetos ), las casas, el puente, y al fondo se ve la muralla ( protegía  a los campesinos de las batallas). Hay una iglesia gótica y un castillo al fondo de la ima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edadmedia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 u="sng">
                <a:solidFill>
                  <a:srgbClr val="000000"/>
                </a:solidFill>
                <a:uFillTx/>
                <a:latin typeface="comic"/>
              </a:rPr>
              <a:t>LOS TORNEOS</a:t>
            </a:r>
            <a:r>
              <a:rPr b="0" lang="es-ES" sz="8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Los torneos fueron eventos de competiciones de caballería en la  alta Edad Media. Eran frecuentes a causas de coronaciones, casamientos de reyes, nacimientos, bodas de príncipes, conquistas…En los torneos los caballeros junto con sus corceles iban con un gran lujo de vestimentas , con adornos, armas… Los caballeros  demostraban su fuerza, su valentía, etc. ante el pueblo y delante de  sus  amada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comic"/>
              </a:rPr>
              <a:t>VIDEOS </a:t>
            </a:r>
            <a:r>
              <a:rPr b="0" lang="es-E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RNEO : http://www.youtube.com/watch?v=hsxkuIM4g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youtube.com/watch?v=sqgR8t3w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UDAD : http://www.youtube.com/watch?v=QOvY2gzDu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TALLAS: http://www.youtube.com/watch?v=sqgR8t3w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8:35:44Z</dcterms:created>
  <dc:creator>IR015252AG</dc:creator>
  <dc:description/>
  <dc:language>en-US</dc:language>
  <cp:lastModifiedBy>Artaza Romo Ikaslea</cp:lastModifiedBy>
  <dcterms:modified xsi:type="dcterms:W3CDTF">2014-02-14T12:54:05Z</dcterms:modified>
  <cp:revision>12</cp:revision>
  <dc:subject/>
  <dc:title>Diapositiva 1</dc:title>
</cp:coreProperties>
</file>